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C569-FA8C-416F-938E-9A3F116CE4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F1F-7E53-4055-ACB5-131CA2CF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129-4AB9-40A1-BB99-C62CBB79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9F1-A8D4-41B8-B832-2BE23DAE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DBB-6205-45FA-B2AD-5C40D2DA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C7B6-5F5B-46C3-8437-563DCF11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AA1D-B4F0-43A6-B105-327EF050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843C-04CD-4D01-9194-F5407156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5BDF-870F-4DA9-9F08-0F7B56E3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95EA-5ADF-4E8C-B641-AB9EC291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FDDA-3D6A-4C5B-997C-CC7F03F7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7264-C460-4459-A6BB-5A9114BA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EA8-3496-492C-AE0E-30AEBAD2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514D-5B57-42DE-9465-DF344C18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E9F8-2605-40C2-B476-E375E9E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4F52-DAAF-4738-8673-23BDFE36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1C6C-EF57-45D7-933B-641B1762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9946-037A-4B9C-A19C-E205BA49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319-6398-4CAE-8B50-5E58464C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EC9-D8C8-4FE1-8429-BBEA2154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8CF-EA07-48E0-9C7B-C97ED634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C70-0484-4A8C-B260-D7B987D8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5D1A-14EA-4A7B-896B-D55065D7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EEA-9623-41F5-A21F-E08F7704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C21-C7AC-4181-8BD9-BFD9D7EB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568C-2505-4115-9F60-B57D7EA0871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EF4A-7795-4D0D-8991-38C8B5A12C2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meo and Julie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Brief 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written by Shakespeare in 1594 or 1595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an experimental stage piece, featuring several radical departures from long-standing conven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609480"/>
            <a:ext cx="86104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Lord and Lady Montague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Romeo’s par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althasar and Abram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servants to the Montagu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apul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Lord and Lady Capule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paren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urs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attenda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ybal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cousin to Juli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ampson and Gregory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servants to the Capule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Very Brief Plot 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6:33:37Z</dcterms:created>
  <dc:creator>BCC/Microsoft Campus Agreement #2218996</dc:creator>
  <dc:description/>
  <dc:language>en-US</dc:language>
  <cp:lastModifiedBy>RomaK</cp:lastModifiedBy>
  <dcterms:modified xsi:type="dcterms:W3CDTF">2015-09-04T10:38:22Z</dcterms:modified>
  <cp:revision>8</cp:revision>
  <dc:subject/>
  <dc:title>Romeo and Juliet</dc:title>
</cp:coreProperties>
</file>